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8D65-3939-4AD1-97D9-0FE8DB44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96D0-B085-4018-A090-C5D5E708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E89-7995-45C0-86FB-74DF58B7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459-FE05-4A98-A660-FED369BF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F9B8-9DEE-48B3-BD5D-F60A3C9E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9680-C5F4-4D48-8DC9-CDE6330A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E787-610D-44D8-B68C-B09B0F03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FB26-34AF-4699-97AD-3734CE59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C905-9257-49DB-A78E-15DA7C5D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19FD-3CD3-4A79-BCE6-D23EC282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660-5EA0-47CC-BFDA-D9C5CDBF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7EC1-B27B-4CD5-94D9-4DED5B6C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7137-4445-401C-890B-FD0F3D71E0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311040" y="341280"/>
            <a:ext cx="859500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619"/>
          <p:cNvSpPr/>
          <p:nvPr/>
        </p:nvSpPr>
        <p:spPr>
          <a:xfrm>
            <a:off x="3544920" y="-19652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623960" y="781200"/>
          <a:ext cx="6012000" cy="5749920"/>
        </p:xfrm>
        <a:graphic>
          <a:graphicData uri="http://schemas.openxmlformats.org/drawingml/2006/table">
            <a:tbl>
              <a:tblPr/>
              <a:tblGrid>
                <a:gridCol w="1013040"/>
                <a:gridCol w="965160"/>
                <a:gridCol w="965160"/>
                <a:gridCol w="893520"/>
                <a:gridCol w="435240"/>
                <a:gridCol w="434880"/>
                <a:gridCol w="434880"/>
                <a:gridCol w="435240"/>
                <a:gridCol w="434880"/>
              </a:tblGrid>
              <a:tr h="368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с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овые с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фр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 каретки (В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од строки (П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Ф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2067"/>
          <p:cNvSpPr/>
          <p:nvPr/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РАГМЕНТ КОДОВОЙ ТАБЛИЦЫ МТК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orig"/>
          <p:cNvPicPr/>
          <p:nvPr/>
        </p:nvPicPr>
        <p:blipFill>
          <a:blip r:embed="rId1"/>
          <a:stretch/>
        </p:blipFill>
        <p:spPr>
          <a:xfrm>
            <a:off x="685800" y="0"/>
            <a:ext cx="771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4755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РУКТУРА КОДА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C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70"/>
          <p:cNvSpPr/>
          <p:nvPr/>
        </p:nvSpPr>
        <p:spPr>
          <a:xfrm>
            <a:off x="3568680" y="-220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721"/>
          <p:cNvSpPr/>
          <p:nvPr/>
        </p:nvSpPr>
        <p:spPr>
          <a:xfrm>
            <a:off x="2152800" y="1752480"/>
            <a:ext cx="510516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довая таблица             256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722"/>
          <p:cNvSpPr/>
          <p:nvPr/>
        </p:nvSpPr>
        <p:spPr>
          <a:xfrm>
            <a:off x="495360" y="3828960"/>
            <a:ext cx="36385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народная таблица                     128 симв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723"/>
          <p:cNvSpPr/>
          <p:nvPr/>
        </p:nvSpPr>
        <p:spPr>
          <a:xfrm>
            <a:off x="4960800" y="3855960"/>
            <a:ext cx="36385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циональная таблица                     128 симв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724"/>
          <p:cNvSpPr/>
          <p:nvPr/>
        </p:nvSpPr>
        <p:spPr>
          <a:xfrm>
            <a:off x="2705040" y="2705040"/>
            <a:ext cx="0" cy="1123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725"/>
          <p:cNvSpPr/>
          <p:nvPr/>
        </p:nvSpPr>
        <p:spPr>
          <a:xfrm>
            <a:off x="6800760" y="2724120"/>
            <a:ext cx="0" cy="1123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56101863"/>
          <p:cNvPicPr/>
          <p:nvPr/>
        </p:nvPicPr>
        <p:blipFill>
          <a:blip r:embed="rId1"/>
          <a:stretch/>
        </p:blipFill>
        <p:spPr>
          <a:xfrm>
            <a:off x="324000" y="262080"/>
            <a:ext cx="849600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-29815500_166196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250920" y="3730680"/>
            <a:ext cx="8642160" cy="2522520"/>
            <a:chOff x="250920" y="3730680"/>
            <a:chExt cx="8642160" cy="2522520"/>
          </a:xfrm>
        </p:grpSpPr>
        <p:sp>
          <p:nvSpPr>
            <p:cNvPr id="106" name="Text Box 3"/>
            <p:cNvSpPr/>
            <p:nvPr/>
          </p:nvSpPr>
          <p:spPr>
            <a:xfrm>
              <a:off x="250920" y="3730680"/>
              <a:ext cx="8642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среднее</a:t>
              </a: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количество информации, приходящейся на один разряд кода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7" name="Object 4"/>
            <p:cNvGraphicFramePr/>
            <p:nvPr/>
          </p:nvGraphicFramePr>
          <p:xfrm>
            <a:off x="1776240" y="5157720"/>
            <a:ext cx="2476800" cy="109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8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76240" y="5157720"/>
                      <a:ext cx="2476800" cy="10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Text Box 5"/>
            <p:cNvSpPr/>
            <p:nvPr/>
          </p:nvSpPr>
          <p:spPr>
            <a:xfrm>
              <a:off x="5151960" y="5372280"/>
              <a:ext cx="2631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ff"/>
                  </a:solidFill>
                  <a:latin typeface="Arial"/>
                </a:rPr>
                <a:t>(бит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</a:rPr>
                <a:t>/ </a:t>
              </a:r>
              <a:r>
                <a:rPr b="1" lang="ru-RU" sz="3000" spc="-1" strike="noStrike">
                  <a:solidFill>
                    <a:srgbClr val="0000ff"/>
                  </a:solidFill>
                  <a:latin typeface="Arial"/>
                </a:rPr>
                <a:t>разряд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6"/>
          <p:cNvSpPr/>
          <p:nvPr/>
        </p:nvSpPr>
        <p:spPr>
          <a:xfrm>
            <a:off x="8924760" y="6750000"/>
            <a:ext cx="2188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Monotype Corsiva"/>
              </a:rPr>
              <a:t>&lt;N.P.&gt;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0" y="1634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нформационные характеристики  к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8"/>
          <p:cNvGrpSpPr/>
          <p:nvPr/>
        </p:nvGrpSpPr>
        <p:grpSpPr>
          <a:xfrm>
            <a:off x="250920" y="1312920"/>
            <a:ext cx="8713800" cy="2160360"/>
            <a:chOff x="250920" y="1312920"/>
            <a:chExt cx="8713800" cy="2160360"/>
          </a:xfrm>
        </p:grpSpPr>
        <p:sp>
          <p:nvSpPr>
            <p:cNvPr id="113" name="Text Box 9"/>
            <p:cNvSpPr/>
            <p:nvPr/>
          </p:nvSpPr>
          <p:spPr>
            <a:xfrm>
              <a:off x="250920" y="1312920"/>
              <a:ext cx="871380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среднее количество разрядов кода, приходящееся на один символ источника: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4" name="Object 10"/>
            <p:cNvGraphicFramePr/>
            <p:nvPr/>
          </p:nvGraphicFramePr>
          <p:xfrm>
            <a:off x="1014480" y="2365200"/>
            <a:ext cx="3070080" cy="110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5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14480" y="2365200"/>
                      <a:ext cx="3070080" cy="110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6" name="Text Box 11"/>
            <p:cNvSpPr/>
            <p:nvPr/>
          </p:nvSpPr>
          <p:spPr>
            <a:xfrm>
              <a:off x="4502880" y="2565360"/>
              <a:ext cx="4397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ff"/>
                  </a:solidFill>
                  <a:latin typeface="Arial"/>
                </a:rPr>
                <a:t>(разряд кода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</a:rPr>
                <a:t>/ </a:t>
              </a:r>
              <a:r>
                <a:rPr b="1" lang="ru-RU" sz="3000" spc="-1" strike="noStrike">
                  <a:solidFill>
                    <a:srgbClr val="0000ff"/>
                  </a:solidFill>
                  <a:latin typeface="Arial"/>
                </a:rPr>
                <a:t>символ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536760" y="4292640"/>
            <a:ext cx="7831080" cy="1641600"/>
            <a:chOff x="536760" y="4292640"/>
            <a:chExt cx="7831080" cy="1641600"/>
          </a:xfrm>
        </p:grpSpPr>
        <p:graphicFrame>
          <p:nvGraphicFramePr>
            <p:cNvPr id="118" name="Object 3"/>
            <p:cNvGraphicFramePr/>
            <p:nvPr/>
          </p:nvGraphicFramePr>
          <p:xfrm>
            <a:off x="1722600" y="5254560"/>
            <a:ext cx="4022640" cy="679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22600" y="5254560"/>
                      <a:ext cx="4022640" cy="67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Rectangle 4"/>
            <p:cNvSpPr/>
            <p:nvPr/>
          </p:nvSpPr>
          <p:spPr>
            <a:xfrm>
              <a:off x="6591960" y="5299200"/>
              <a:ext cx="1511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ff"/>
                  </a:solidFill>
                  <a:latin typeface="Arial"/>
                </a:rPr>
                <a:t>(бит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1" lang="ru-RU" sz="3000" spc="-1" strike="noStrike">
                  <a:solidFill>
                    <a:srgbClr val="0000ff"/>
                  </a:solidFill>
                  <a:latin typeface="Arial"/>
                </a:rPr>
                <a:t>с)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536760" y="4292640"/>
              <a:ext cx="783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скорость передачи по каналу связи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6"/>
          <p:cNvSpPr/>
          <p:nvPr/>
        </p:nvSpPr>
        <p:spPr>
          <a:xfrm>
            <a:off x="2700360" y="5114880"/>
            <a:ext cx="259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0" y="1634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ценка   эффективности использования равномерного к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8"/>
          <p:cNvGrpSpPr/>
          <p:nvPr/>
        </p:nvGrpSpPr>
        <p:grpSpPr>
          <a:xfrm>
            <a:off x="607680" y="1557360"/>
            <a:ext cx="7541280" cy="2351160"/>
            <a:chOff x="607680" y="1557360"/>
            <a:chExt cx="7541280" cy="2351160"/>
          </a:xfrm>
        </p:grpSpPr>
        <p:sp>
          <p:nvSpPr>
            <p:cNvPr id="125" name="Rectangle 9"/>
            <p:cNvSpPr/>
            <p:nvPr/>
          </p:nvSpPr>
          <p:spPr>
            <a:xfrm>
              <a:off x="607680" y="1557360"/>
              <a:ext cx="754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избыточность равномерного кода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" name="Object 10"/>
            <p:cNvGraphicFramePr/>
            <p:nvPr/>
          </p:nvGraphicFramePr>
          <p:xfrm>
            <a:off x="2714760" y="2276640"/>
            <a:ext cx="3762360" cy="1631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7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14760" y="2276640"/>
                      <a:ext cx="3762360" cy="16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115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ма №1 Статистическое кодирование в системах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Лекция №1.  Кодирование источников дискретных сообщ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47680" y="2600640"/>
            <a:ext cx="871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ификация кодов. Теорема Шенн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 Методы равномерного кодирова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сновные тер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98000" y="1006560"/>
            <a:ext cx="856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Кодирование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процесс представления каждого символа источника сообщения в виде кодовой комбин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Кодовая комбинация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совокупность символов кода, которая характеризуется разрядностью или длиной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54936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опрос 1 Классификация кодов. Теорема Шенн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сновные тер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1006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К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вся совокупность кодовых комбинаций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Код характеризуется таким параметром как основание кода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Основание код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 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бщее количество разных символов алфавита кода. Например, основание двоичных кодов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2 (0,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6"/>
          <p:cNvSpPr/>
          <p:nvPr/>
        </p:nvSpPr>
        <p:spPr>
          <a:xfrm>
            <a:off x="0" y="30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ДАЧИ  КОД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7"/>
          <p:cNvSpPr/>
          <p:nvPr/>
        </p:nvSpPr>
        <p:spPr>
          <a:xfrm>
            <a:off x="0" y="1173600"/>
            <a:ext cx="9202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гласование источника сообщения и кан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вязи по алфави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Повышение скорости передачи информации, за счет уменьшение избыточности сооб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 Увеличение помехоустойчивости за счет введения  избыто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9"/>
          <p:cNvSpPr/>
          <p:nvPr/>
        </p:nvSpPr>
        <p:spPr>
          <a:xfrm>
            <a:off x="457200" y="4087800"/>
            <a:ext cx="8256600" cy="1312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ая и вторая задачи кодирования выполн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ройством, называемом </a:t>
            </a:r>
            <a:r>
              <a:rPr b="1" i="1" lang="ru-RU" sz="2800" spc="-1" strike="noStrike">
                <a:solidFill>
                  <a:srgbClr val="ff6699"/>
                </a:solidFill>
                <a:latin typeface="Arial"/>
              </a:rPr>
              <a:t>кодером источника</a:t>
            </a:r>
            <a:r>
              <a:rPr b="1" lang="ru-RU" sz="2800" spc="-1" strike="noStrike">
                <a:solidFill>
                  <a:srgbClr val="ff6699"/>
                </a:solidFill>
                <a:latin typeface="Arial"/>
              </a:rPr>
              <a:t> (КДИ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>
            <a:hlinkClick r:id="" action="ppaction://hlinkshowjump?jump=firstslide"/>
          </p:cNvPr>
          <p:cNvSpPr/>
          <p:nvPr/>
        </p:nvSpPr>
        <p:spPr>
          <a:xfrm>
            <a:off x="0" y="193680"/>
            <a:ext cx="9144000" cy="571320"/>
          </a:xfrm>
          <a:custGeom>
            <a:avLst/>
            <a:gdLst>
              <a:gd name="textAreaLeft" fmla="*/ 36720 w 9144000"/>
              <a:gd name="textAreaRight" fmla="*/ 9107280 w 91440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345505" h="21600">
                <a:moveTo>
                  <a:pt x="0" y="0"/>
                </a:moveTo>
                <a:lnTo>
                  <a:pt x="345505" y="0"/>
                </a:lnTo>
                <a:lnTo>
                  <a:pt x="345505" y="21600"/>
                </a:lnTo>
                <a:lnTo>
                  <a:pt x="0" y="21600"/>
                </a:lnTo>
                <a:close/>
              </a:path>
              <a:path fill="lightenLess" w="345505" h="21600">
                <a:moveTo>
                  <a:pt x="0" y="0"/>
                </a:moveTo>
                <a:lnTo>
                  <a:pt x="345505" y="0"/>
                </a:lnTo>
                <a:lnTo>
                  <a:pt x="344105" y="1400"/>
                </a:lnTo>
                <a:lnTo>
                  <a:pt x="1400" y="1400"/>
                </a:lnTo>
                <a:close/>
              </a:path>
              <a:path fill="darken" w="345505" h="21600">
                <a:moveTo>
                  <a:pt x="345505" y="0"/>
                </a:moveTo>
                <a:lnTo>
                  <a:pt x="345505" y="21600"/>
                </a:lnTo>
                <a:lnTo>
                  <a:pt x="344105" y="20200"/>
                </a:lnTo>
                <a:lnTo>
                  <a:pt x="344105" y="1400"/>
                </a:lnTo>
                <a:close/>
              </a:path>
              <a:path fill="darkenLess" w="345505" h="21600">
                <a:moveTo>
                  <a:pt x="3455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105" y="20200"/>
                </a:lnTo>
                <a:close/>
              </a:path>
              <a:path fill="lighten" w="3455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РУКТУРНАЯ СХЕМА СИСТЕМЫ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23"/>
          <p:cNvGrpSpPr/>
          <p:nvPr/>
        </p:nvGrpSpPr>
        <p:grpSpPr>
          <a:xfrm>
            <a:off x="1411200" y="1407960"/>
            <a:ext cx="6510960" cy="4392720"/>
            <a:chOff x="1411200" y="1407960"/>
            <a:chExt cx="6510960" cy="4392720"/>
          </a:xfrm>
        </p:grpSpPr>
        <p:sp>
          <p:nvSpPr>
            <p:cNvPr id="55" name="Rectangle 4"/>
            <p:cNvSpPr/>
            <p:nvPr/>
          </p:nvSpPr>
          <p:spPr>
            <a:xfrm>
              <a:off x="2468520" y="1407960"/>
              <a:ext cx="1728720" cy="4392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 flipH="1">
              <a:off x="1411200" y="2050920"/>
              <a:ext cx="844560" cy="520560"/>
            </a:xfrm>
            <a:prstGeom prst="rect">
              <a:avLst/>
            </a:prstGeom>
            <a:solidFill>
              <a:srgbClr val="66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И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2790720" y="2050920"/>
              <a:ext cx="1092240" cy="5205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КД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7"/>
            <p:cNvSpPr/>
            <p:nvPr/>
          </p:nvSpPr>
          <p:spPr>
            <a:xfrm>
              <a:off x="5102280" y="2050920"/>
              <a:ext cx="1033200" cy="52056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Р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8"/>
            <p:cNvSpPr/>
            <p:nvPr/>
          </p:nvSpPr>
          <p:spPr>
            <a:xfrm>
              <a:off x="5097600" y="3573360"/>
              <a:ext cx="1085760" cy="52056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9"/>
            <p:cNvSpPr/>
            <p:nvPr/>
          </p:nvSpPr>
          <p:spPr>
            <a:xfrm>
              <a:off x="1434960" y="3573360"/>
              <a:ext cx="865080" cy="520560"/>
            </a:xfrm>
            <a:prstGeom prst="rect">
              <a:avLst/>
            </a:prstGeom>
            <a:solidFill>
              <a:srgbClr val="66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0"/>
            <p:cNvSpPr/>
            <p:nvPr/>
          </p:nvSpPr>
          <p:spPr>
            <a:xfrm>
              <a:off x="6933600" y="2776320"/>
              <a:ext cx="988560" cy="520560"/>
            </a:xfrm>
            <a:prstGeom prst="rect">
              <a:avLst/>
            </a:prstGeom>
            <a:solidFill>
              <a:srgbClr val="cc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МС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1"/>
            <p:cNvSpPr/>
            <p:nvPr/>
          </p:nvSpPr>
          <p:spPr>
            <a:xfrm>
              <a:off x="2252520" y="234468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2"/>
            <p:cNvSpPr/>
            <p:nvPr/>
          </p:nvSpPr>
          <p:spPr>
            <a:xfrm>
              <a:off x="3862440" y="2344680"/>
              <a:ext cx="117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4"/>
            <p:cNvSpPr/>
            <p:nvPr/>
          </p:nvSpPr>
          <p:spPr>
            <a:xfrm>
              <a:off x="2277720" y="385740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5"/>
            <p:cNvSpPr/>
            <p:nvPr/>
          </p:nvSpPr>
          <p:spPr>
            <a:xfrm>
              <a:off x="3875040" y="3857400"/>
              <a:ext cx="119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7"/>
            <p:cNvSpPr/>
            <p:nvPr/>
          </p:nvSpPr>
          <p:spPr>
            <a:xfrm>
              <a:off x="2813040" y="3573360"/>
              <a:ext cx="1079280" cy="5205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Д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0"/>
            <p:cNvSpPr/>
            <p:nvPr/>
          </p:nvSpPr>
          <p:spPr>
            <a:xfrm>
              <a:off x="2516040" y="4691160"/>
              <a:ext cx="1505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кодек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И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3"/>
            <p:cNvSpPr/>
            <p:nvPr/>
          </p:nvSpPr>
          <p:spPr>
            <a:xfrm>
              <a:off x="4792680" y="1407960"/>
              <a:ext cx="1728720" cy="4392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4"/>
            <p:cNvSpPr/>
            <p:nvPr/>
          </p:nvSpPr>
          <p:spPr>
            <a:xfrm>
              <a:off x="4943520" y="4579920"/>
              <a:ext cx="15285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моде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5"/>
            <p:cNvSpPr/>
            <p:nvPr/>
          </p:nvSpPr>
          <p:spPr>
            <a:xfrm>
              <a:off x="6153120" y="234468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6"/>
            <p:cNvSpPr/>
            <p:nvPr/>
          </p:nvSpPr>
          <p:spPr>
            <a:xfrm>
              <a:off x="6208920" y="385740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7"/>
            <p:cNvSpPr/>
            <p:nvPr/>
          </p:nvSpPr>
          <p:spPr>
            <a:xfrm>
              <a:off x="7344000" y="23446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8"/>
            <p:cNvSpPr/>
            <p:nvPr/>
          </p:nvSpPr>
          <p:spPr>
            <a:xfrm flipV="1">
              <a:off x="7402680" y="342540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85"/>
          <p:cNvSpPr/>
          <p:nvPr/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ЛАССИФИКАЦИЯ К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Группа 17"/>
          <p:cNvGrpSpPr/>
          <p:nvPr/>
        </p:nvGrpSpPr>
        <p:grpSpPr>
          <a:xfrm>
            <a:off x="666720" y="1042920"/>
            <a:ext cx="8248680" cy="5425200"/>
            <a:chOff x="666720" y="1042920"/>
            <a:chExt cx="8248680" cy="5425200"/>
          </a:xfrm>
        </p:grpSpPr>
        <p:sp>
          <p:nvSpPr>
            <p:cNvPr id="78" name="Rectangle 172"/>
            <p:cNvSpPr/>
            <p:nvPr/>
          </p:nvSpPr>
          <p:spPr>
            <a:xfrm>
              <a:off x="3359160" y="1042920"/>
              <a:ext cx="2749320" cy="63000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Код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73"/>
            <p:cNvSpPr/>
            <p:nvPr/>
          </p:nvSpPr>
          <p:spPr>
            <a:xfrm>
              <a:off x="4927680" y="2357280"/>
              <a:ext cx="3987720" cy="1071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омехоустойчив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(корректирующие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74"/>
            <p:cNvSpPr/>
            <p:nvPr/>
          </p:nvSpPr>
          <p:spPr>
            <a:xfrm>
              <a:off x="4597200" y="3881520"/>
              <a:ext cx="3549600" cy="1087200"/>
            </a:xfrm>
            <a:prstGeom prst="rect">
              <a:avLst/>
            </a:prstGeom>
            <a:solidFill>
              <a:srgbClr val="ffcc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татистическ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(неравномерные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75"/>
            <p:cNvSpPr/>
            <p:nvPr/>
          </p:nvSpPr>
          <p:spPr>
            <a:xfrm>
              <a:off x="799920" y="2361960"/>
              <a:ext cx="3568680" cy="6490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римитив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80"/>
            <p:cNvSpPr/>
            <p:nvPr/>
          </p:nvSpPr>
          <p:spPr>
            <a:xfrm>
              <a:off x="699840" y="3870360"/>
              <a:ext cx="3206880" cy="1087200"/>
            </a:xfrm>
            <a:prstGeom prst="rect">
              <a:avLst/>
            </a:prstGeom>
            <a:solidFill>
              <a:srgbClr val="ffcc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ервич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(равномерные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86"/>
            <p:cNvSpPr/>
            <p:nvPr/>
          </p:nvSpPr>
          <p:spPr>
            <a:xfrm>
              <a:off x="3714840" y="16570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87"/>
            <p:cNvSpPr/>
            <p:nvPr/>
          </p:nvSpPr>
          <p:spPr>
            <a:xfrm>
              <a:off x="5772240" y="167616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88"/>
            <p:cNvSpPr/>
            <p:nvPr/>
          </p:nvSpPr>
          <p:spPr>
            <a:xfrm>
              <a:off x="2381040" y="302868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89"/>
            <p:cNvSpPr/>
            <p:nvPr/>
          </p:nvSpPr>
          <p:spPr>
            <a:xfrm>
              <a:off x="2381040" y="3047760"/>
              <a:ext cx="4019400" cy="78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90"/>
            <p:cNvSpPr/>
            <p:nvPr/>
          </p:nvSpPr>
          <p:spPr>
            <a:xfrm>
              <a:off x="666720" y="5371920"/>
              <a:ext cx="3200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МТК-2, МТК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SC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91"/>
            <p:cNvSpPr/>
            <p:nvPr/>
          </p:nvSpPr>
          <p:spPr>
            <a:xfrm>
              <a:off x="4952880" y="5276880"/>
              <a:ext cx="2933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Хаффмена, Шеннона-Фано, Морз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Теорема Шеннона (теорема о кодировани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473040" y="2911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производительность источника сообщения не превышает пропускную способность канала связи, то всегда может быть найден способ кодирования сообщения, позволяющий приблизить скорость передачи информации по каналу связи к его реальной пропускной способ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опрос 2 Методы равномерного код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7:11:06Z</dcterms:created>
  <dc:creator>**</dc:creator>
  <dc:description/>
  <dc:language>en-US</dc:language>
  <cp:lastModifiedBy>Вера</cp:lastModifiedBy>
  <dcterms:modified xsi:type="dcterms:W3CDTF">2021-09-16T08:45:50Z</dcterms:modified>
  <cp:revision>207</cp:revision>
  <dc:subject/>
  <dc:title>Слайд 1</dc:title>
</cp:coreProperties>
</file>